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E4B-41FD-4ECA-BC1F-71F1C333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32C-A152-49E2-8797-1312344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F32-F885-47CC-B565-7AEEEA28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B4B-BAA9-4EA2-B723-2408FE1B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17E-AB88-4AB1-AA82-7D3BE4B9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E54-ED11-4D2B-8E38-B0711BD0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442-3986-4EBE-B4C9-EBBD563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396-B735-46AE-A8B6-B860D15A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AAA-CD62-4847-AD8B-A7A699CF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7B9-A789-45B4-A8A3-EA9A84D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7EC-7918-42F8-8D76-034A9E5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ED6-3683-4002-96CE-9E122DF4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83D3-E5F0-427D-B05B-DF6A28C78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near present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d by John 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a log ca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ll him honest A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27:03Z</dcterms:created>
  <dc:creator>Carolyn Spielmann</dc:creator>
  <dc:description/>
  <dc:language>en-US</dc:language>
  <cp:lastModifiedBy>Carolyn Spielmann</cp:lastModifiedBy>
  <dcterms:modified xsi:type="dcterms:W3CDTF">2010-02-04T18:41:59Z</dcterms:modified>
  <cp:revision>4</cp:revision>
  <dc:subject/>
  <dc:title>Slide 1</dc:title>
</cp:coreProperties>
</file>